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cartoon4.wav" ContentType="audio/x-wav"/>
  <Override PartName="/ppt/media/applause.wav" ContentType="audio/x-wav"/>
  <Override PartName="/ppt/media/hilari2.wav" ContentType="audio/x-wav"/>
  <Override PartName="/ppt/media/cowbell.wav" ContentType="audio/x-wav"/>
  <Override PartName="/ppt/media/RENSCREM.wav" ContentType="audio/x-wav"/>
  <Override PartName="/ppt/media/kiss2.wav" ContentType="audio/x-wav"/>
  <Override PartName="/ppt/media/cartoon3.wav" ContentType="audio/x-wav"/>
  <Override PartName="/ppt/media/cartoon2.wav" ContentType="audio/x-wav"/>
  <Override PartName="/ppt/media/cartoon1.wav" ContentType="audio/x-wav"/>
  <Override PartName="/ppt/media/door1.wav" ContentType="audio/x-wav"/>
  <Override PartName="/ppt/media/image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A4D18-315A-4EA4-AE1D-9A35C1D40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4A931-E512-4ECC-8E0B-CE5940B32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0313E-71FA-4DBA-950B-10D41B381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307D4-AE21-4025-99E7-2D63D4C84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2E47F-8438-4E8E-A6D2-FEF6C1425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5BBD2-4271-4358-8CE9-2CC2436DD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60BB6-E550-4CDE-98D0-1DE9C8F00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59729-D47E-41AA-A095-71E09AD20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2B39D-0E9F-447F-905B-1806A008C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E16FD-3CCD-4F75-A2E9-3A59447A2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2804C-F9F7-4B0C-8391-58DB1BDF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C92BB-7DF8-4307-864F-AF6A20409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55E4B-FC45-454F-8153-F09CAB93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E9D52-CF7B-470A-B738-E3B85DAE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D3E05-937B-4A3D-80C7-CF53AF732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C3188-F045-4B29-BC90-4A897EECE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E2091-E520-41E9-8F5F-69CC916A4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B1068-CC01-45FF-B1C8-A02AAF5F9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C50FF-738F-4207-8C7E-AE9BE92F6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9C9E3-A583-44C7-BEE8-4BEAACDA9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795CC-DD81-464D-9DDC-1E53AEC51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70239-00FF-4219-865D-EFE658A1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4EDBF-0E14-425C-AA80-5B1F935D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36440-11E6-4E43-88F8-977ADCCD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e617d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e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53041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222d3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2c3a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2c3a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a374b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445876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a374b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4458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45876"/>
                </a:gs>
                <a:gs pos="50000">
                  <a:srgbClr val="495c79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227BB-8E5E-4B6E-9537-C28D0195E8D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e617d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e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53041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222d3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2c3a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2c3a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a374b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445876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a374b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4458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45876"/>
                </a:gs>
                <a:gs pos="50000">
                  <a:srgbClr val="495c79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E76A5-F841-45D7-8652-D44088B4BDF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toon1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oor1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RENSCREM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owbell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kiss2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hilari2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toon3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toon4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toon2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160" y="990360"/>
            <a:ext cx="79246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Guess the Covered Word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ed b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anne Whitl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toon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oor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ENSCREM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85800" y="457200"/>
            <a:ext cx="8077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Let’s review our words.  Watch carefully because they will flash on the screen for just a moment. We will clap as we spell the word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09480" y="2286000"/>
            <a:ext cx="7696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imes New Roman"/>
              </a:rPr>
              <a:t>Type 1</a:t>
            </a:r>
            <a:r>
              <a:rPr b="1" lang="en-US" sz="96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1" lang="en-US" sz="9600" spc="-1" strike="noStrike">
                <a:solidFill>
                  <a:srgbClr val="ffffff"/>
                </a:solidFill>
                <a:latin typeface="Times New Roman"/>
              </a:rPr>
              <a:t> wor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09480" y="2286000"/>
            <a:ext cx="7696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Type next wor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09480" y="685800"/>
            <a:ext cx="7696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Type next wor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09480" y="1905120"/>
            <a:ext cx="7696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Type next wor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533520" y="762120"/>
            <a:ext cx="7696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Type next wor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500" spc="-1" strike="noStrike">
                <a:solidFill>
                  <a:srgbClr val="006666"/>
                </a:solidFill>
                <a:latin typeface="Arial"/>
              </a:rPr>
              <a:t>GREAT JOB!</a:t>
            </a:r>
            <a:endParaRPr b="0" lang="en-US" sz="10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809880" y="3352680"/>
            <a:ext cx="16671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ffffff"/>
                </a:solidFill>
                <a:latin typeface="Arial"/>
              </a:rPr>
              <a:t>Say It!</a:t>
            </a: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134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ist wor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134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ist wor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134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ist wor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134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ist wor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134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ist wor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1828800"/>
            <a:ext cx="2057400" cy="609480"/>
          </a:xfrm>
          <a:prstGeom prst="rightArrow">
            <a:avLst>
              <a:gd name="adj1" fmla="val 50000"/>
              <a:gd name="adj2" fmla="val 84392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2819520"/>
            <a:ext cx="2057400" cy="609480"/>
          </a:xfrm>
          <a:prstGeom prst="rightArrow">
            <a:avLst>
              <a:gd name="adj1" fmla="val 50000"/>
              <a:gd name="adj2" fmla="val 84392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" y="3809880"/>
            <a:ext cx="2057400" cy="609840"/>
          </a:xfrm>
          <a:prstGeom prst="rightArrow">
            <a:avLst>
              <a:gd name="adj1" fmla="val 50000"/>
              <a:gd name="adj2" fmla="val 84342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" y="4724280"/>
            <a:ext cx="2057400" cy="609840"/>
          </a:xfrm>
          <a:prstGeom prst="rightArrow">
            <a:avLst>
              <a:gd name="adj1" fmla="val 50000"/>
              <a:gd name="adj2" fmla="val 84342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5638680"/>
            <a:ext cx="2057400" cy="609840"/>
          </a:xfrm>
          <a:prstGeom prst="rightArrow">
            <a:avLst>
              <a:gd name="adj1" fmla="val 50000"/>
              <a:gd name="adj2" fmla="val 84342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wbe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kiss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lari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toon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toon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57200" y="533520"/>
            <a:ext cx="8229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ntence with firs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ord.  Cover the wor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ith the curtai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toon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gewood User</cp:lastModifiedBy>
  <dcterms:modified xsi:type="dcterms:W3CDTF">2008-04-21T20:53:59Z</dcterms:modified>
  <cp:revision>1</cp:revision>
  <dc:subject/>
  <dc:title>Guess the Covered Word</dc:title>
</cp:coreProperties>
</file>